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288CBF-8341-4013-8F53-E330632AA8F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0F7489-B7EC-40FF-9DB6-0C662A46E5F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1EC33-8284-4ADF-B2F5-E9970CE2F0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EB7CBA-EEAB-4ED6-B445-4C0AD0C720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92270C-F42C-47E7-8633-702E73714BF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101317-D959-4802-865A-B3652046E69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CAAB93-1167-414C-A61A-18A6BA48BBA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FD6A9A-AB4D-45B2-95A1-8576DE1C643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D6B604-040D-42D2-849A-809A3B6E0C9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9CCE8D-30C9-486D-AF69-EE0C2416E3E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F9BC6A-CD7D-4F1F-A776-85FA54C9AD9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452B11-052B-48E2-BBA9-8CE54753114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057222-8734-4DDD-A9EC-0EF7444FC61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D31C03-0147-4CF8-A818-87F62F277D2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C8512E-6CB5-46A1-B600-25804AAC5EA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DA672B-DF4A-41C3-A04E-5B67891A276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B22FF6-3E00-4CC1-ADCC-4CEB3D1942E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7D747A-078B-4F3D-BA47-9F31FA38AC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E76-E0BB-4CE3-B5CC-DA8D31E2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14F-17D1-434F-A4BF-D538A54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9BA-872A-49E8-8C16-14E26B21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ACD-911B-424E-A827-062B8B85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88DA-B3B5-4B70-B3E8-A582FEBD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987-97B3-4AED-80F9-AF6A00E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FFA5-02C8-4078-829C-A7F1B7C9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59BF-DFFD-46FB-B1A2-1BDE1128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7AA0-092C-467F-A710-26544E4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757F-FF16-4DCD-81E5-014EE413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51A-D40B-4BFA-9483-B43A19F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F97-0C36-4E7B-83F9-767B18F6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46E-FA84-4BF1-B4D7-9AAEEBD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FA3-DCA4-4F25-B5A7-4E287C53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53A8-DEC9-403C-8FEA-8DE63BD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6A14-BDB9-4B67-979B-072274DD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6D7-47F6-4149-9AC7-A287AAC5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FCA-FBFC-477F-A468-A487223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028-4FB3-4953-BD98-D85C654B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21D-544A-45C8-86D5-B882E437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965-4462-4287-99E6-7328075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11D-AFDC-4394-A296-2FC67B6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B5E-332B-451F-9A1D-8B213B2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46C-CC61-4C4F-AB32-25173C3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E7E8-CE82-49C0-9BC9-3676AC447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955A-DA25-4153-A3E3-DF310B8B95B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15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15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15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16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16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17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17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17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18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18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18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19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20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2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23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24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4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24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26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hat about: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 is more effec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ing algorithms to derive the possible correc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ttangolo arrotondato 1"/>
          <p:cNvSpPr/>
          <p:nvPr/>
        </p:nvSpPr>
        <p:spPr>
          <a:xfrm>
            <a:off x="3203640" y="5589720"/>
            <a:ext cx="5583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 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80520" y="1700280"/>
            <a:ext cx="82947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to trans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i]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j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edit distance as an alignment problem wher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ser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le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 to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i]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j] then last op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us it is not coun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413000" y="4508640"/>
            <a:ext cx="6688080" cy="23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i, E(0,j)=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=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1 +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S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774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24000" y="1628640"/>
          <a:ext cx="1966680" cy="1311480"/>
        </p:xfrm>
        <a:graphic>
          <a:graphicData uri="http://schemas.openxmlformats.org/drawingml/2006/table">
            <a:tbl>
              <a:tblPr/>
              <a:tblGrid>
                <a:gridCol w="984240"/>
                <a:gridCol w="9824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6" name="Connettore 2 3"/>
          <p:cNvCxnSpPr/>
          <p:nvPr/>
        </p:nvCxnSpPr>
        <p:spPr>
          <a:xfrm>
            <a:off x="684000" y="1916280"/>
            <a:ext cx="115164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7" name="CasellaDiTesto 4"/>
          <p:cNvSpPr/>
          <p:nvPr/>
        </p:nvSpPr>
        <p:spPr>
          <a:xfrm>
            <a:off x="816480" y="1716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98" name="Connettore 2 7"/>
          <p:cNvCxnSpPr/>
          <p:nvPr/>
        </p:nvCxnSpPr>
        <p:spPr>
          <a:xfrm>
            <a:off x="1834920" y="1916280"/>
            <a:ext cx="108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99" name="CasellaDiTesto 11"/>
          <p:cNvSpPr/>
          <p:nvPr/>
        </p:nvSpPr>
        <p:spPr>
          <a:xfrm>
            <a:off x="1810440" y="1828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CasellaDiTesto 12"/>
          <p:cNvSpPr/>
          <p:nvPr/>
        </p:nvSpPr>
        <p:spPr>
          <a:xfrm>
            <a:off x="780840" y="234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1" name="Connettore 2 13"/>
          <p:cNvCxnSpPr/>
          <p:nvPr/>
        </p:nvCxnSpPr>
        <p:spPr>
          <a:xfrm>
            <a:off x="798480" y="2711160"/>
            <a:ext cx="1046880" cy="1476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ne-error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proble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1-error = insertion, deletion or substitution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one single charact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a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substitu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agina 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inser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Ferrragina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rragina (deletio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string of length L over A chars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#variants = L (A-1) + (L+1)A + L = A * (2L+1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ould have many candid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can still deploy keyboard layout or other statistical information (web, wikipedia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ttangolo arrotondato 8"/>
          <p:cNvSpPr/>
          <p:nvPr/>
        </p:nvSpPr>
        <p:spPr>
          <a:xfrm>
            <a:off x="4788000" y="5445000"/>
            <a:ext cx="424800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Do we need to mak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the enumera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reate two dictiona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1 = { strings 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2 = { strings of D1 with </a:t>
            </a:r>
            <a:r>
              <a:rPr b="0" i="1" lang="it-IT" sz="2400" spc="-1" strike="noStrike">
                <a:solidFill>
                  <a:srgbClr val="ff0000"/>
                </a:solidFill>
                <a:latin typeface="Lucida Sans"/>
              </a:rPr>
              <a:t>one deletion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</a:t>
            </a:r>
            <a:r>
              <a:rPr b="0" lang="it-IT" sz="26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 dag], da [dag], dg [dag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s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a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, cst [</a:t>
            </a:r>
            <a:r>
              <a:rPr b="0" lang="it-IT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]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ct [cst], st [cst]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-3189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ct [cat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ttangolo arrotondato 8"/>
          <p:cNvSpPr/>
          <p:nvPr/>
        </p:nvSpPr>
        <p:spPr>
          <a:xfrm>
            <a:off x="5357880" y="5445000"/>
            <a:ext cx="3678120" cy="1297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Assume a fast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string-check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in a dictiona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2920" y="1557000"/>
            <a:ext cx="867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1 = {cat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t,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,</a:t>
            </a:r>
            <a:r>
              <a:rPr b="0" lang="it-IT" sz="26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g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2 = { </a:t>
            </a: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ag [dag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a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t [cat], ca [ca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as [cast], cat [cast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 [cst],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cst [cast],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ct [cat;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cst]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ab7e"/>
                </a:solidFill>
                <a:latin typeface="Lucida Sans"/>
              </a:rPr>
              <a:t>da [dag], dg [dag], </a:t>
            </a:r>
            <a:r>
              <a:rPr b="0" lang="it-IT" sz="2600" spc="-1" strike="noStrike">
                <a:solidFill>
                  <a:srgbClr val="0070c0"/>
                </a:solidFill>
                <a:latin typeface="Lucida Sans"/>
              </a:rPr>
              <a:t>st [cst]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5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518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Query(«cat»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(P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(P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 [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cat [cast]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search for {at, ct, ca} in D1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 match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(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) in D2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 [e.g. {at,ct, ca} in D2 </a:t>
            </a:r>
            <a:r>
              <a:rPr b="0" i="1" lang="it-IT" sz="2400" spc="-1" strike="noStrike">
                <a:solidFill>
                  <a:srgbClr val="00ab7e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t [cat], ct [cat], </a:t>
            </a:r>
            <a:r>
              <a:rPr b="0" lang="it-IT" sz="2400" spc="-1" strike="noStrike">
                <a:solidFill>
                  <a:srgbClr val="0070c0"/>
                </a:solidFill>
                <a:latin typeface="Lucida Sans"/>
              </a:rPr>
              <a:t>ct [cst],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 [cat]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possible approa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91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Query(P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fect match: Search for P in D1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less: Search for P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1 query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 1-char more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1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ubstitution: Search for P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Lucida Sans"/>
              </a:rPr>
              <a:t>-1 cha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in D2 , </a:t>
            </a:r>
            <a:r>
              <a:rPr b="0" i="1" lang="it-IT" sz="2400" spc="-1" strike="noStrike">
                <a:solidFill>
                  <a:srgbClr val="00ab7e"/>
                </a:solidFill>
                <a:latin typeface="Lucida Sans"/>
              </a:rPr>
              <a:t>p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We need 2p + 2 hash computations for 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P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PU efficient, no cache misses for computing P’s hashes; but O(p) cache misses to search in D1 and D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rge space because of the many strings in D2 which must be stored to search in the hash table of D2, unless we avoid collision (perfect hash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FALSE MATCHES: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tw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atches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st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as SUB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verlap vs Ed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Lucida Sans"/>
              </a:rPr>
              <a:t>K-gram 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(useful for &gt;1 errors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7524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 index contains for ev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ram (he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=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) all terms including that k-gra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92400" y="409104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282680" y="462456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2057400" y="42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2057400" y="47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395520" y="40910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99960" y="347184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2057400" y="3633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355200" y="347184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381120" y="469116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002200" y="409104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5" name="AutoShape 13"/>
          <p:cNvCxnSpPr>
            <a:stCxn id="329" idx="3"/>
            <a:endCxn id="334" idx="1"/>
          </p:cNvCxnSpPr>
          <p:nvPr/>
        </p:nvCxnSpPr>
        <p:spPr>
          <a:xfrm>
            <a:off x="4509720" y="432396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 Box 14"/>
          <p:cNvSpPr/>
          <p:nvPr/>
        </p:nvSpPr>
        <p:spPr>
          <a:xfrm>
            <a:off x="4821840" y="3471840"/>
            <a:ext cx="115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dd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15"/>
          <p:cNvCxnSpPr>
            <a:stCxn id="332" idx="3"/>
            <a:endCxn id="336" idx="1"/>
          </p:cNvCxnSpPr>
          <p:nvPr/>
        </p:nvCxnSpPr>
        <p:spPr>
          <a:xfrm>
            <a:off x="4254120" y="3704760"/>
            <a:ext cx="45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Line 16"/>
          <p:cNvSpPr/>
          <p:nvPr/>
        </p:nvSpPr>
        <p:spPr>
          <a:xfrm>
            <a:off x="6095880" y="3710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6400800" y="4319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6095880" y="4929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4921920" y="46911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2" name="AutoShape 20"/>
          <p:cNvCxnSpPr>
            <a:stCxn id="333" idx="3"/>
            <a:endCxn id="341" idx="1"/>
          </p:cNvCxnSpPr>
          <p:nvPr/>
        </p:nvCxnSpPr>
        <p:spPr>
          <a:xfrm flipV="1">
            <a:off x="4495680" y="4890240"/>
            <a:ext cx="3880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TextBox 21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tent Placeholder 23"/>
          <p:cNvSpPr/>
          <p:nvPr/>
        </p:nvSpPr>
        <p:spPr>
          <a:xfrm>
            <a:off x="684360" y="551808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ppend k-1 symbol $ at the front of each string, in order to generate a number L of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-grams for a string of length 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Overlap Distanc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umerate al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in Q = mon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$m, mo, 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17600" y="4754520"/>
            <a:ext cx="8618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index to rank all lexicon terms according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"/>
              </a:rPr>
              <a:t>number of match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s </a:t>
            </a:r>
            <a:r>
              <a:rPr b="0" lang="en-US" sz="2400" spc="-1" strike="noStrike">
                <a:solidFill>
                  <a:srgbClr val="00b050"/>
                </a:solidFill>
                <a:latin typeface="Lucida Sans"/>
              </a:rPr>
              <a:t>(moo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633680" y="3154320"/>
            <a:ext cx="560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623960" y="3687840"/>
            <a:ext cx="483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398680" y="3306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398680" y="3840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736800" y="315432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1641240" y="2535120"/>
            <a:ext cx="551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$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2398680" y="2697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696480" y="2535120"/>
            <a:ext cx="82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3722400" y="3754440"/>
            <a:ext cx="101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343840" y="3154320"/>
            <a:ext cx="1255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mort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9" name="AutoShape 13"/>
          <p:cNvCxnSpPr>
            <a:stCxn id="353" idx="3"/>
            <a:endCxn id="358" idx="1"/>
          </p:cNvCxnSpPr>
          <p:nvPr/>
        </p:nvCxnSpPr>
        <p:spPr>
          <a:xfrm>
            <a:off x="4851000" y="3387240"/>
            <a:ext cx="367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 Box 14"/>
          <p:cNvSpPr/>
          <p:nvPr/>
        </p:nvSpPr>
        <p:spPr>
          <a:xfrm>
            <a:off x="5073480" y="2565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1" name="AutoShape 15"/>
          <p:cNvCxnSpPr>
            <a:stCxn id="356" idx="3"/>
            <a:endCxn id="360" idx="1"/>
          </p:cNvCxnSpPr>
          <p:nvPr/>
        </p:nvCxnSpPr>
        <p:spPr>
          <a:xfrm flipV="1">
            <a:off x="4595400" y="2764800"/>
            <a:ext cx="453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16"/>
          <p:cNvSpPr/>
          <p:nvPr/>
        </p:nvSpPr>
        <p:spPr>
          <a:xfrm>
            <a:off x="6021360" y="2773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17"/>
          <p:cNvSpPr/>
          <p:nvPr/>
        </p:nvSpPr>
        <p:spPr>
          <a:xfrm flipV="1">
            <a:off x="8028000" y="338148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7456320" y="4002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5263200" y="3789360"/>
            <a:ext cx="8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ro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6" name="AutoShape 20"/>
          <p:cNvCxnSpPr>
            <a:stCxn id="357" idx="3"/>
            <a:endCxn id="365" idx="1"/>
          </p:cNvCxnSpPr>
          <p:nvPr/>
        </p:nvCxnSpPr>
        <p:spPr>
          <a:xfrm>
            <a:off x="4836960" y="3987360"/>
            <a:ext cx="388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Text Box 14"/>
          <p:cNvSpPr/>
          <p:nvPr/>
        </p:nvSpPr>
        <p:spPr>
          <a:xfrm>
            <a:off x="7210080" y="317340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68" name="AutoShape 15"/>
          <p:cNvCxnSpPr>
            <a:endCxn id="367" idx="1"/>
          </p:cNvCxnSpPr>
          <p:nvPr/>
        </p:nvCxnSpPr>
        <p:spPr>
          <a:xfrm flipV="1">
            <a:off x="6732720" y="3373200"/>
            <a:ext cx="4528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14"/>
          <p:cNvSpPr/>
          <p:nvPr/>
        </p:nvSpPr>
        <p:spPr>
          <a:xfrm>
            <a:off x="6526800" y="3789360"/>
            <a:ext cx="863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70" name="AutoShape 20"/>
          <p:cNvCxnSpPr>
            <a:stCxn id="365" idx="3"/>
            <a:endCxn id="369" idx="1"/>
          </p:cNvCxnSpPr>
          <p:nvPr/>
        </p:nvCxnSpPr>
        <p:spPr>
          <a:xfrm flipV="1">
            <a:off x="6194160" y="3988800"/>
            <a:ext cx="30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lap Distance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versus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13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lect terms by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threshold on matchin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-gra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the term is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hars long (it consists of L k-gram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the number of allowed errors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(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of Q might be different from term’s ones because of the E errors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 at least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k-grams in Q must match a dictionary term to be a candidate answ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ED is required, post-filter results dyn pro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ttangolo arrotondato 1"/>
          <p:cNvSpPr/>
          <p:nvPr/>
        </p:nvSpPr>
        <p:spPr>
          <a:xfrm>
            <a:off x="250920" y="5950080"/>
            <a:ext cx="8610480" cy="679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cessary but not sufficient condition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=$mom, Q=$omo, L-E*k=3-1*2=1, T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Q = {mo,om} but EditDist = 2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with trigrams (K=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uppose the term to compare is $$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novemb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n, $no, nov, ove, v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query 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$$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grams ar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$$d, $de, dec, ece, cem, 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emb, mbe, b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1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1*3 = 5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NO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|Q|=8, K=3, if E=2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L – E*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= 8 – 2*3 = 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Lucida Sans"/>
              </a:rPr>
              <a:t>OK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012000" y="2205000"/>
            <a:ext cx="2089080" cy="19447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108000" y="6237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-filter is needed to check that the distance &gt; 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ast searching for k-gra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ume we wish to match the following bi-grams (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lo, or, r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against a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2-gram index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t over a dictionary of term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602720" y="3267000"/>
            <a:ext cx="44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602000" y="3800520"/>
            <a:ext cx="487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602720" y="4334040"/>
            <a:ext cx="48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2125800" y="34196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2125800" y="3952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2125800" y="4486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359160" y="3276720"/>
            <a:ext cx="98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716360" y="327672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024600" y="3276720"/>
            <a:ext cx="903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lo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737240" y="3809880"/>
            <a:ext cx="86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60361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orb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812120" y="440064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178320" y="4400640"/>
            <a:ext cx="81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5" name="AutoShape 17"/>
          <p:cNvCxnSpPr>
            <a:stCxn id="388" idx="3"/>
            <a:endCxn id="389" idx="1"/>
          </p:cNvCxnSpPr>
          <p:nvPr/>
        </p:nvCxnSpPr>
        <p:spPr>
          <a:xfrm>
            <a:off x="4349880" y="3509640"/>
            <a:ext cx="367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Text Box 18"/>
          <p:cNvSpPr/>
          <p:nvPr/>
        </p:nvSpPr>
        <p:spPr>
          <a:xfrm>
            <a:off x="3364200" y="3809880"/>
            <a:ext cx="1146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7" name="AutoShape 19"/>
          <p:cNvCxnSpPr>
            <a:stCxn id="396" idx="3"/>
            <a:endCxn id="391" idx="1"/>
          </p:cNvCxnSpPr>
          <p:nvPr/>
        </p:nvCxnSpPr>
        <p:spPr>
          <a:xfrm>
            <a:off x="4530600" y="4043160"/>
            <a:ext cx="20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20"/>
          <p:cNvCxnSpPr>
            <a:stCxn id="391" idx="3"/>
            <a:endCxn id="392" idx="1"/>
          </p:cNvCxnSpPr>
          <p:nvPr/>
        </p:nvCxnSpPr>
        <p:spPr>
          <a:xfrm>
            <a:off x="5597280" y="4043160"/>
            <a:ext cx="4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21"/>
          <p:cNvCxnSpPr>
            <a:stCxn id="393" idx="3"/>
            <a:endCxn id="394" idx="1"/>
          </p:cNvCxnSpPr>
          <p:nvPr/>
        </p:nvCxnSpPr>
        <p:spPr>
          <a:xfrm>
            <a:off x="5978520" y="4633560"/>
            <a:ext cx="19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AutoShape 22"/>
          <p:cNvCxnSpPr>
            <a:stCxn id="389" idx="3"/>
            <a:endCxn id="390" idx="1"/>
          </p:cNvCxnSpPr>
          <p:nvPr/>
        </p:nvCxnSpPr>
        <p:spPr>
          <a:xfrm>
            <a:off x="5576400" y="35096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Text Box 23"/>
          <p:cNvSpPr/>
          <p:nvPr/>
        </p:nvSpPr>
        <p:spPr>
          <a:xfrm>
            <a:off x="3346200" y="4410000"/>
            <a:ext cx="1149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r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24"/>
          <p:cNvCxnSpPr>
            <a:stCxn id="401" idx="3"/>
            <a:endCxn id="393" idx="1"/>
          </p:cNvCxnSpPr>
          <p:nvPr/>
        </p:nvCxnSpPr>
        <p:spPr>
          <a:xfrm flipV="1">
            <a:off x="4497480" y="4633560"/>
            <a:ext cx="2955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25"/>
          <p:cNvSpPr/>
          <p:nvPr/>
        </p:nvSpPr>
        <p:spPr>
          <a:xfrm>
            <a:off x="3200400" y="3200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276720" y="4343400"/>
            <a:ext cx="12952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5" name="Group 27"/>
          <p:cNvGrpSpPr/>
          <p:nvPr/>
        </p:nvGrpSpPr>
        <p:grpSpPr>
          <a:xfrm>
            <a:off x="3276720" y="3733920"/>
            <a:ext cx="2743200" cy="1218960"/>
            <a:chOff x="3276720" y="3733920"/>
            <a:chExt cx="2743200" cy="1218960"/>
          </a:xfrm>
        </p:grpSpPr>
        <p:sp>
          <p:nvSpPr>
            <p:cNvPr id="406" name="Rectangle 28"/>
            <p:cNvSpPr/>
            <p:nvPr/>
          </p:nvSpPr>
          <p:spPr>
            <a:xfrm>
              <a:off x="3276720" y="3733920"/>
              <a:ext cx="12952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9"/>
            <p:cNvSpPr/>
            <p:nvPr/>
          </p:nvSpPr>
          <p:spPr>
            <a:xfrm>
              <a:off x="4724280" y="434340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08" name="Group 30"/>
          <p:cNvGrpSpPr/>
          <p:nvPr/>
        </p:nvGrpSpPr>
        <p:grpSpPr>
          <a:xfrm>
            <a:off x="4648320" y="3200400"/>
            <a:ext cx="1066680" cy="1143000"/>
            <a:chOff x="4648320" y="3200400"/>
            <a:chExt cx="1066680" cy="1143000"/>
          </a:xfrm>
        </p:grpSpPr>
        <p:sp>
          <p:nvSpPr>
            <p:cNvPr id="409" name="Rectangle 31"/>
            <p:cNvSpPr/>
            <p:nvPr/>
          </p:nvSpPr>
          <p:spPr>
            <a:xfrm>
              <a:off x="4648320" y="320040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32"/>
            <p:cNvSpPr/>
            <p:nvPr/>
          </p:nvSpPr>
          <p:spPr>
            <a:xfrm>
              <a:off x="4648320" y="3733920"/>
              <a:ext cx="1066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1" name="Rectangle 33"/>
          <p:cNvSpPr/>
          <p:nvPr/>
        </p:nvSpPr>
        <p:spPr>
          <a:xfrm>
            <a:off x="5943600" y="3733920"/>
            <a:ext cx="1371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6095880" y="4343400"/>
            <a:ext cx="9907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35"/>
          <p:cNvSpPr/>
          <p:nvPr/>
        </p:nvSpPr>
        <p:spPr>
          <a:xfrm>
            <a:off x="5943600" y="3200400"/>
            <a:ext cx="10666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11080" y="4999680"/>
            <a:ext cx="7261560" cy="1238040"/>
          </a:xfrm>
          <a:prstGeom prst="upArrowCallout">
            <a:avLst>
              <a:gd name="adj1" fmla="val 258154"/>
              <a:gd name="adj2" fmla="val 258103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tandard postings “merge” will enumerate term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with their cardina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916200" y="635148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hen choose terms if #occ possibly filter out &lt; L – k*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Box 3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Lucida Sans"/>
              </a:rPr>
              <a:t>Context-sensitiv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xt: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o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the phrase query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“flew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Heathrow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d like to respo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id you mean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lew from Heathro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cause no docs matched the query phras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issues in spell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numerate multiple alternatives and then need to figure out which to present to the user for “Did you mean?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se heuristi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lternative hitting most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log analysis + tweak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especially popular, topical queri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ell-correction is computationally expensi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only on queries that matched few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5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ophisticated quer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ild-card queries: *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mon*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ind all docs containing words beginning with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a Prefix-search data struc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*mon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words ending 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intain a prefix-search data 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everse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rm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17680" y="5370480"/>
            <a:ext cx="794196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can we solve the wild-card query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pro*cen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* in the middle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o*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uld look up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*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intersect the two lists 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(expensiv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e*at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il*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may result in many Boolea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solution: transform wild-card queries so that the *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occur at the e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gives rise to the </a:t>
            </a:r>
            <a:r>
              <a:rPr b="1" lang="en-US" sz="2600" spc="-1" strike="noStrike">
                <a:solidFill>
                  <a:srgbClr val="00a000"/>
                </a:solidFill>
                <a:latin typeface="Lucida Sans"/>
              </a:rPr>
              <a:t>Permu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dex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ter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llo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dex und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hello$, ello$h, llo$he, lo$hel, o$hell, $hell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ere $ is a special symbo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  $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$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*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lookup on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okup on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Y$X*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*Y*Z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??? Exercis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ermuterm query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otate query wild-card to the righ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*Q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Q$P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use prefix-search data struct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ermuterm problem: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≈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4x lexicon siz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AutoShape 1028"/>
          <p:cNvSpPr/>
          <p:nvPr/>
        </p:nvSpPr>
        <p:spPr>
          <a:xfrm>
            <a:off x="3282120" y="3813120"/>
            <a:ext cx="4183200" cy="598320"/>
          </a:xfrm>
          <a:prstGeom prst="upArrowCallout">
            <a:avLst>
              <a:gd name="adj1" fmla="val 174805"/>
              <a:gd name="adj2" fmla="val 174789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mpirical observation for English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ass of heuristics to expand a query into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phone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equival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specific – mainly for nam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hebyshe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chebychef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for the U.S. census in 1918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urn every token to be indexed into a reduced form consisting of 4 cha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o the same with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ild and search an index on the reduced fo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– typical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tain the first letter of the word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all occurrences of the following letters to '0' (zero)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  'A', E', 'I', 'O', 'U', 'H', 'W', 'Y'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erma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rm0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hange letters to digits as follows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, F, P,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, G, J, K, Q, S, X,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,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H0rm0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89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 cont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pairs of consecutive equal digit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0650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move all zeros from the resulting str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H0650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H655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-495360">
              <a:spcBef>
                <a:spcPts val="1800"/>
              </a:spcBef>
              <a:buClr>
                <a:srgbClr val="a50021"/>
              </a:buClr>
              <a:buSzPct val="60000"/>
              <a:buFont typeface="Lucida San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d the resulting string with trailing zeros and return the first four positions, which will be of the form &lt;uppercase letter&gt; &lt;digit&gt; &lt;digit&gt; &lt;digit&gt;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Herman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so becomes H655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undex is the classic algorithm, provided by most databases (Oracle, Microsoft, …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t very useful – for information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kay for “high recall” tasks (e.g., Interpol), though biased to names of certain nationalit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algorithms for phonetic matching perform much better in the context of I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hav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itional inverted index (with skip pointe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ld-card i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ll-corr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could solve queries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SPELL(moriset) AND toron*to) 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OUNDEX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(chaikofski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27040" y="1852560"/>
            <a:ext cx="7813800" cy="3975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460840" y="236232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ttangolo 4"/>
          <p:cNvSpPr/>
          <p:nvPr/>
        </p:nvSpPr>
        <p:spPr>
          <a:xfrm>
            <a:off x="411120" y="5938920"/>
            <a:ext cx="81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12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23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27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7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41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2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1-03T16:47:21Z</dcterms:modified>
  <cp:revision>1217</cp:revision>
  <dc:subject/>
  <dc:title>Web Algorithmics</dc:title>
</cp:coreProperties>
</file>